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Violence Rises in Iraq’s Tense North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Yoona Cha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2882880" y="851040"/>
            <a:ext cx="76201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ranians (Arabs + Kurds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41120" y="2133720"/>
            <a:ext cx="10922040" cy="660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monstrations in Mosul (car bomb killed 7 and wounded 18 in Kirkuk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omber rammed a car into police patrol near headquarter of main Turkmen political par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theel al-Nujaifi prevented by Kurdish security forces from attending a hot-air balloon festival in Bashiqa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E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uesday May 12, 2009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one day after a car bomb left three dead and eight wounded outside a Kirkuk mosqu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ER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Kirkuk, an industrial city in northern Iraq, center of oil industry in that reg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Y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41120" y="2120760"/>
            <a:ext cx="10922040" cy="704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Kirkuk is the most controversial point on a tense ethnic fault line between Kurds and Arabs that stretches wast from Syria and south along the Iranian border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mericans brought in Kurdish security forces (pesh merga) to Nineveh in 2003 to pacif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rabs protest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esh merga argues “The pesh merga will not leave.They are in Kurdish areas to protect the citizens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ONNECT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rosecution of Jews in Germany (WWI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BIBLIOGRAPHY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"/>
              </a:rPr>
              <a:t>http://www.nytimes.com/2009/05/13/world/middleeast/13iraq.html?ref=middleeas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